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1319-759B-4FE1-B230-462A9A7FBA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5942-AC32-459E-92AD-582A051BDC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C1C8-8D34-4842-8A41-19FE1CB385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42AC-7C7C-460A-9977-C00469A28B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3622-E047-42D8-9E24-D79FC180E5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8E4D-97B8-4674-B3F5-F1A72C191C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7231-4396-46C6-9EDC-401E9E14ED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DCE2-EDEA-4291-83A8-D4CAC266C7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2E41-04B9-4671-B708-7209CE8D30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D5E1-6AEC-46AB-B393-FB52662529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2FAD-6180-44F8-A6AD-EA89B2BECC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CB36-6DF6-4285-B2DF-B577311FC8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693-AC7F-4AC8-B6E4-20FE0CDCA2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ED62-7997-4AED-8B94-8F9662C81D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357A-64D8-4650-8720-05F5D6871D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7D0D-3DCC-4D38-88C6-B5A6B60D7D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C53A-DD6C-45D7-B8F7-BC9EE808DF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70C0-578D-4277-A4CD-D891A628B0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8472-8980-4C8B-A659-915477F66E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3D23-16A5-4A31-AE13-22404AC815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EE88-9587-4E5D-AFFD-D6FB447FDA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3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4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50"/>
            <p:cNvSpPr/>
            <p:nvPr/>
          </p:nvSpPr>
          <p:spPr>
            <a:xfrm>
              <a:off x="5632200" y="3962520"/>
              <a:ext cx="59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6" name="Rechteck 39"/>
            <p:cNvSpPr/>
            <p:nvPr/>
          </p:nvSpPr>
          <p:spPr>
            <a:xfrm>
              <a:off x="4669920" y="5572800"/>
              <a:ext cx="4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hteck 40"/>
            <p:cNvSpPr/>
            <p:nvPr/>
          </p:nvSpPr>
          <p:spPr>
            <a:xfrm>
              <a:off x="6218280" y="553716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hteck 41"/>
            <p:cNvSpPr/>
            <p:nvPr/>
          </p:nvSpPr>
          <p:spPr>
            <a:xfrm>
              <a:off x="7588440" y="669060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90A8-8302-42EC-A3ED-F6D257A069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9EDA-BA72-4364-94C2-C360EC43D3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900640" y="6191280"/>
            <a:ext cx="62172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62D5-D49A-4739-B56E-5D1388963A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4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3"/>
          <p:cNvSpPr/>
          <p:nvPr/>
        </p:nvSpPr>
        <p:spPr>
          <a:xfrm>
            <a:off x="647640" y="62485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F1D8-6008-4E23-BD43-5B6761CC0F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9F60-D6FD-4C66-83CA-575A47F55E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76DB-FB0E-4EEE-8BF0-DAD61769B5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FE92-E670-4833-9777-AC9F6A3684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F42A-0D2D-459D-8BCD-408E6F95A7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1519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OWL als SHOIN(D) –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5EAA-566D-4DD0-96A8-72A7D89054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CD4D-7B22-4FEA-B58C-C58D683AF1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6210-48B9-454F-A62D-D4255BB23C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2636-B244-47A1-8FAE-7B6C1893EF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F186-AC5A-47EB-B4E2-A7AADDAF30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33680" y="2536920"/>
          <a:ext cx="4206600" cy="445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 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1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2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3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4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5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17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1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2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5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6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7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28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29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2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AutoShape 153"/>
          <p:cNvSpPr/>
          <p:nvPr/>
        </p:nvSpPr>
        <p:spPr>
          <a:xfrm rot="16200000">
            <a:off x="1038960" y="6440760"/>
            <a:ext cx="76212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6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8883-9384-475A-96BB-83203C70F85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A0BB-E0F9-4063-AAE8-D2CCA1127A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EE24-C52E-4F60-8693-718844F495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6E49-D1B0-47B5-8DB2-BF5EFA74E0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0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1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3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4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6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0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1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3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4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67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0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1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2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3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5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6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7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8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3B13-753F-4EC0-A29F-6DB0464FE77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1E29-09F1-432E-9142-E37882F29B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F5F5-1F6A-4BE7-8B06-105A2E314E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3325-71B7-442E-82A8-3944F4B1F2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das Tableau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80CA-00A0-4503-8CC6-76D165CF0D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07AD-4599-41CB-B736-1BF75580B8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0C8A-F701-4F4C-BBC1-30F63A3491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BF96-DD12-43B4-87C2-D0F12F66FA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F868-9E99-4A61-B6CB-AC98CCFFF1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9D9E-F3E4-4ED0-9CAA-3103DCB6BF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F166-1816-4494-B6A3-2D391B1A5E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79D3-F298-4763-A22B-941178547B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F997-E928-47D5-94DC-922ADB720A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80B6-60CA-451A-A4F5-4B1554A0B7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F81A-DDA2-4881-B0C6-B80E459F36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0451-D205-41F2-A05F-6904A2D081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0B55-F217-4CBF-9494-A05739BCEE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43D8-4373-4BE3-9CDC-D0BB7D0D2A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38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0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1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4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47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0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3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6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59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8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69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2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5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78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7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88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1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4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697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0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3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2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3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6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19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2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3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D187-F393-46EA-B16E-89949FF4AD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B145-B8CC-437C-BE06-977390F714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8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9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0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1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2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3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6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89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2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5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7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98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6837-D267-4DBF-829C-8479F87C10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2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3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4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5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6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07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09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0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3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6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19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2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5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28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0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1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7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38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1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4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47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6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57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0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2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3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4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5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6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7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3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4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0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1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2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3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4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5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359-64CD-4E12-B82D-9F6F796474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C28A-FF02-49C1-B875-AB2E3D42E4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EFCA-46DA-4808-AA81-FB35686248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0A53-357B-434E-81A2-2BDA7727AE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ABEF-63CC-4AAA-A20E-0A11355A4B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CFDC-14B3-4D21-ACEB-0054175F435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E9B7-FA2F-4512-A62D-C7520C4811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2:51Z</dcterms:created>
  <dc:creator/>
  <dc:description/>
  <cp:keywords/>
  <dc:language>en-US</dc:language>
  <cp:lastModifiedBy>Sebastian Rudolph</cp:lastModifiedBy>
  <dcterms:modified xsi:type="dcterms:W3CDTF">2009-12-10T00:28:07Z</dcterms:modified>
  <cp:revision>10</cp:revision>
  <dc:subject/>
  <dc:title>Grundlagen Semantic Web</dc:title>
</cp:coreProperties>
</file>